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C9E-E2DA-42DD-A1AF-C6B94E08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1C1-4FDD-4FCD-9CE2-A3AF12B0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BAF-B26A-49D0-92D0-2F36A5CE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0F7-8A8B-4529-8776-0F3BA6CC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EC9-619A-4B69-818D-0CC2A3F1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C83-98FC-41C8-BD8B-E0CBD83A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A9D-B335-4C78-9629-DA572873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74D-F779-4241-B211-3F0218FA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FBD-81FB-49CC-B46B-0828E932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DB4-3945-42F7-976C-EE85F15A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B6D-C0C5-455E-A2D3-3BD596D7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42D-D191-4A59-8A43-67C010FA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C4D9-3912-40D1-815B-C3F8597AA4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6.8 Changing Social More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minem- 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t down bitch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you move again I'll beat the shit out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re's a four year old boy lyin' dead with a slit throat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your living room, ha-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Changing Social Mores: Attitudes Toward “Recreational”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rticle Kate returns to the run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ghtly humorous way of reporting a tragic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king about a young successful woman who developed a dru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Changing Social Mores: Attitudes Toward “Recreational”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lerance for reformed drug laws are moving forward (DWI, D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titudes towards recreational drugs are based on three miscon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Changing Social Mores: Attitudes Toward “Recreational”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rug use usually leads to criminal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rugs usually lead to ad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st adolescents are pressured to us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000"/>
            </a:b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Work Related St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wing perception emerged that government had become too big and costly, and it’s role in the economy should be re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obalization- employees were expected to do more with less, departments merged, perks reduced and benefits cut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 Related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cial mores have shifted so that employees now expect to work harder and put in more hours than they did 20 year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this leads to a level of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ork-related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 Related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ies have shown stress is more prevalent where mental pressure is persistent and the sense of personal control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Aboriginal Health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r system based on Western worldview; human body as a machine and illness as a breakdown in th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role of the medical personnel i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air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Aboriginal Health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rst Nations and Inuit; human body is not a machine that can be fixed independently of a person’s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parts of the patients life must be he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toring bal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hysical, emotional, social and spiritual aspects of healing and promotes personal role in h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Aboriginal Health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cial mores have changed in this regard because anthropologists have demonstrated that it is necessary to respect cultural differences among the population when designing health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hanging Social More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ociologists classify our behaviours into a number of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 u="sng">
                <a:solidFill>
                  <a:srgbClr val="000000"/>
                </a:solidFill>
                <a:uFillTx/>
                <a:latin typeface="Arial"/>
              </a:rPr>
              <a:t>Folk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Behaviours that a typical member of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would usually practi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If a folway is violated the per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would still be accepted i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hanging Social More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 u="sng">
                <a:solidFill>
                  <a:srgbClr val="000000"/>
                </a:solidFill>
                <a:uFillTx/>
                <a:latin typeface="Arial"/>
              </a:rPr>
              <a:t>Social M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behaviours regarded as essential to the welfare and survival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breaking a social more is not acceptabl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oceity but with changing attitudes t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view is slowly 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hanging Social More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Social M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’s Flokways and Social Mores have changed dramatically over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ill look at four areas in which our social mores have changed and how these changes affect our well 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734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here is a growing tolerance for depections of violenc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Psychologists worry that much media programming designed for young people provide them with poor ro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tarts on Saturday morning cart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Media Awareness Network found that by the time most children are 12 they have seen up to  12 000 violent deaths on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fenders of the programming often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at children recognize that it’s a cartoon and that it’s f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sychologists point out that violence is a learned behaviour and that early and continued exposure can condition children to act in viol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ular concern is directed at movies and mus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minem- Love the Way You 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'm tired of the games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 just want her back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 know I'm a liar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she ever tries to fucking leave again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'mma tie her to the bed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set the house on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Jason</cp:lastModifiedBy>
  <dcterms:modified xsi:type="dcterms:W3CDTF">2011-05-25T16:12:08Z</dcterms:modified>
  <cp:revision>14</cp:revision>
  <dc:subject/>
  <dc:title>Title</dc:title>
</cp:coreProperties>
</file>